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3FC9-4D9F-4D86-A17D-A9B1607F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06C8-5ABA-470F-816E-8438CA1A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02F0-FB00-44EF-957A-1347D179A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58FF-E95F-4667-83B6-AB7B5C5E7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726D-AB8F-4FDC-8982-A02C2FBC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5C92-FC3F-4F8B-8DC3-7C84D32A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2CD9-6A73-46A5-BFEB-5DC90D79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224A-6B8C-4689-974A-89C9D5AF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FF3E-5D2B-4F72-B78E-F7F9E79D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8331-7837-4BAA-92ED-AA38CE25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6A84-66FB-467B-B9B5-8895F108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4118-F2AE-4019-818D-F6325CBC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0C43-8B5F-46AE-B33B-CA511FCBE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e llamo _________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ase 801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a fecha es 20 de noviembre del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posito 28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Cómo practicamos los verbos de cambio radic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ribe una oracion original con cada verb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e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m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90676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leta con la forma correcta del ver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oy nosotros _____________ a jugar a las dos.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(empez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sotros ___________ ganar.  No ___________ per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(quer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nosotros ___________ el partido de hoy, _________ todo.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(per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-escribe las oraciones del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j. 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517840" y="1447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empezamos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2003760" y="1905120"/>
            <a:ext cx="187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quer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489640" y="1905120"/>
            <a:ext cx="19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queremos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2365560" y="2819520"/>
            <a:ext cx="19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perdemos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6556680" y="2757600"/>
            <a:ext cx="187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perd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537480" y="4129200"/>
            <a:ext cx="59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Hoy yo </a:t>
            </a: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em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zo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 a jugar a las 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60440" y="4876920"/>
            <a:ext cx="30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Yo </a:t>
            </a: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qu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ro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 gan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3414600" y="4876920"/>
            <a:ext cx="34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No </a:t>
            </a: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qu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ro 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pe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538560" y="5805360"/>
            <a:ext cx="699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Si yo </a:t>
            </a: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rdo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 el partido hoy, </a:t>
            </a: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rdo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 to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82296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 ___________ ocho horas cada noche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dorm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 ___________ llegar a la escuela a las ocho menos cuar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po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 ___________ tomar el autobu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quer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 ___________(al) futbol despues de las clase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jug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 ___________ con el equipo de la escuela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jug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 ___________ a casa a las cinco y media o a las sei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volv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 ___________ muy bien despues de jugar mucho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dorm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escribe las oraciones de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. 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 el PLU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462320" y="609480"/>
            <a:ext cx="14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r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1639080" y="1128600"/>
            <a:ext cx="12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615680" y="198108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qu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1451160" y="2438280"/>
            <a:ext cx="11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1603440" y="3352680"/>
            <a:ext cx="11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1526760" y="419112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l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1603440" y="5029200"/>
            <a:ext cx="14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r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LOS DEPORTES EN EL MUNDO HISP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a p.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228600" y="4267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18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paso de la tarea 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Juegan ustedes (al) futb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Juegan con unos amigos o con el equipo de su escue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Vuelven ustedes al campo cuando empieza el segundo tiemp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Pueden ustedes usar las manos cuando juegan (al) futb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Tienen ustedes que lanzar el balon con los pies o el braz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Duermen ustedes bien despues de jugar (al) futb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78880" y="1752480"/>
            <a:ext cx="52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Si, (no, no) jugamos al futb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40360" y="245268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Jugamos con unos amig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24640" y="3494160"/>
            <a:ext cx="88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Si, volvemos al campo cuando empieza el segundo tiemp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233640" y="4546440"/>
            <a:ext cx="873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ff"/>
                </a:solidFill>
                <a:latin typeface="Arial"/>
              </a:rPr>
              <a:t>No, no podemos usar las manos cuando jugamos futbo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756720" y="5576760"/>
            <a:ext cx="73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Tenemos que lanzar el balón con los p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387360" y="6324480"/>
            <a:ext cx="80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Si, dormimos bien después de jugar (al) futb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 la Tarea 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Juegas al bingo en la clase de españ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Puedes hablar ingles en la clase de españ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e lengua puedes o tienes que hablar en la clase de españ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Duermes en la clase de españ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Devuelve el/la profesor(a) los exámenes pront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34360" y="1843200"/>
            <a:ext cx="86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Si, (no, no) juego al Bingo en la clase de españ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44640" y="2770200"/>
            <a:ext cx="9099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0000ff"/>
                </a:solidFill>
                <a:latin typeface="Arial"/>
              </a:rPr>
              <a:t>Si, (no, no) puedo hablar ingles en la clase de españo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97000" y="3976560"/>
            <a:ext cx="79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Puedo hablar español en la clase de españ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10680" y="4890960"/>
            <a:ext cx="663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No, no duermo en la clase de españ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159120" y="5867280"/>
            <a:ext cx="907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Si (no, el/la profesor(a) (no) devuelven los exám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pron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 la Tarea 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320" y="762120"/>
            <a:ext cx="90676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jercicio 10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 duermo ocho horas cada no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 puedo llegar a las ocho menos cua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 puedo tomar el autobú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 juego (al) futbol después de las cl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 juego con el equipo de la escue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 vuelvo a casa a las cinco y media o a las se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 duermo muy bien después de jugar muc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914400" y="1893960"/>
            <a:ext cx="67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Nosotros dormimos ocho horas cada noch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912960" y="2590920"/>
            <a:ext cx="76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Nosotros podemos llegar a las ocho menos cuar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914400" y="3352680"/>
            <a:ext cx="55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Nosotros podemos tomar el autobú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900720" y="4114800"/>
            <a:ext cx="778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Nosotros jugamos (al) futbol después de las cl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759600" y="4800600"/>
            <a:ext cx="70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Nosotros jugamos con el equipo de la escue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79080" y="5486400"/>
            <a:ext cx="87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Nosotros volvemos a casa a las cinco y media o a las se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455760" y="63244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Nosotros dormimos muy bien después de jugar muc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 la Tarea 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914040"/>
            <a:ext cx="9067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_______ (jugar) mucho al futbol y Diana ________ (jugar) mucho también, pero ahora ella no ________( pod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-Diana, ¿por qué no _________ (poder) jugar aho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-No _______ (poder) porque _______(querer) ir a ca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, Diana _________(querer) ir a casa porque ella _______(tener) un amigo que ________(volver) hoy de Puerto Rico y ella _______(querer) estar en casa. Pero mañana todos nosotros __________(ir ) a jugar. Y el amigo puertorriqueño de Diana _________(poder) jugar también. Su amigo __________(jugar) muy b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520280" y="127008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ju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068120" y="16765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ju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673640" y="205740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pu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4264920" y="243828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pue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1449360" y="320040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pue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5406480" y="32004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qui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2516400" y="38862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qui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992160" y="43434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ti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5788800" y="426708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vue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4268880" y="4648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qui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6855840" y="495288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v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992880" y="563868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pu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992160" y="60199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ju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rbos de la “Bot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m-changing verbs are also known as “BOOT” ver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see why; conjugate the verb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mpe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N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 ella U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743560" y="3962520"/>
            <a:ext cx="16041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m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z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2745720" y="4419720"/>
            <a:ext cx="15858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m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755080" y="4876920"/>
            <a:ext cx="15872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m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z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652720" y="396252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mpez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652360" y="441972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mpezá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6472440" y="4876920"/>
            <a:ext cx="1602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m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z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4262040" y="487692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os ellas U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4279680" y="4876920"/>
            <a:ext cx="16880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m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z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2819520" y="5334120"/>
            <a:ext cx="53316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3276720" y="5334120"/>
            <a:ext cx="2666880" cy="16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4"/>
          <p:cNvSpPr/>
          <p:nvPr/>
        </p:nvSpPr>
        <p:spPr>
          <a:xfrm>
            <a:off x="2286000" y="3581280"/>
            <a:ext cx="3809880" cy="2667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303120" y="3352680"/>
            <a:ext cx="31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e…..it’s a BOOT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762480" y="6248520"/>
            <a:ext cx="75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YOU ONLY CHANGE WHAT I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SID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THE BOOT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RY IT AGAIN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te 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o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Jug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N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 ella 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Jug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N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 ella 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2823840" y="274320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os ellas U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461240" y="1905120"/>
            <a:ext cx="12808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477800" y="2362320"/>
            <a:ext cx="12625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477440" y="2819520"/>
            <a:ext cx="12643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4193280" y="190512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od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4192920" y="236232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odé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5031360" y="2743200"/>
            <a:ext cx="12794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2668680" y="2819520"/>
            <a:ext cx="13647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1447920" y="3276720"/>
            <a:ext cx="53316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1447920" y="3276720"/>
            <a:ext cx="2666880" cy="16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2823840" y="495288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os ellas U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524240" y="4114800"/>
            <a:ext cx="1332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go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6400" y="4572000"/>
            <a:ext cx="13143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g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1524600" y="5029200"/>
            <a:ext cx="13161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g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4345920" y="411480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Jug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9"/>
          <p:cNvSpPr/>
          <p:nvPr/>
        </p:nvSpPr>
        <p:spPr>
          <a:xfrm>
            <a:off x="4345200" y="45720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Jugá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5108040" y="4952880"/>
            <a:ext cx="12459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1"/>
          <p:cNvSpPr/>
          <p:nvPr/>
        </p:nvSpPr>
        <p:spPr>
          <a:xfrm>
            <a:off x="2821320" y="5029200"/>
            <a:ext cx="13312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g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523880" y="5394240"/>
            <a:ext cx="2667240" cy="16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3"/>
          <p:cNvSpPr/>
          <p:nvPr/>
        </p:nvSpPr>
        <p:spPr>
          <a:xfrm>
            <a:off x="1523880" y="5410080"/>
            <a:ext cx="5335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gai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2280" y="914400"/>
          <a:ext cx="6934320" cy="2590920"/>
        </p:xfrm>
        <a:graphic>
          <a:graphicData uri="http://schemas.openxmlformats.org/drawingml/2006/table">
            <a:tbl>
              <a:tblPr/>
              <a:tblGrid>
                <a:gridCol w="1206720"/>
                <a:gridCol w="1807920"/>
                <a:gridCol w="2065320"/>
                <a:gridCol w="1854360"/>
              </a:tblGrid>
              <a:tr h="647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Quer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27"/>
          <p:cNvSpPr/>
          <p:nvPr/>
        </p:nvSpPr>
        <p:spPr>
          <a:xfrm>
            <a:off x="1523880" y="1614600"/>
            <a:ext cx="1600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Qu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8"/>
          <p:cNvSpPr/>
          <p:nvPr/>
        </p:nvSpPr>
        <p:spPr>
          <a:xfrm>
            <a:off x="1523880" y="2300400"/>
            <a:ext cx="1600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Qu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9"/>
          <p:cNvSpPr/>
          <p:nvPr/>
        </p:nvSpPr>
        <p:spPr>
          <a:xfrm>
            <a:off x="1523880" y="2909880"/>
            <a:ext cx="1600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Qu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0"/>
          <p:cNvSpPr/>
          <p:nvPr/>
        </p:nvSpPr>
        <p:spPr>
          <a:xfrm>
            <a:off x="5105520" y="1614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Quer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1"/>
          <p:cNvSpPr/>
          <p:nvPr/>
        </p:nvSpPr>
        <p:spPr>
          <a:xfrm>
            <a:off x="5334120" y="2209680"/>
            <a:ext cx="1600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Quer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5334120" y="2909880"/>
            <a:ext cx="1600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Qu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3"/>
          <p:cNvSpPr/>
          <p:nvPr/>
        </p:nvSpPr>
        <p:spPr>
          <a:xfrm>
            <a:off x="1523880" y="2071800"/>
            <a:ext cx="1600200" cy="36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1523880" y="2773440"/>
            <a:ext cx="1600200" cy="274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5"/>
          <p:cNvSpPr/>
          <p:nvPr/>
        </p:nvSpPr>
        <p:spPr>
          <a:xfrm>
            <a:off x="3048120" y="2909880"/>
            <a:ext cx="1600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Qu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6"/>
          <p:cNvSpPr/>
          <p:nvPr/>
        </p:nvSpPr>
        <p:spPr>
          <a:xfrm>
            <a:off x="1981080" y="3413160"/>
            <a:ext cx="2667240" cy="16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7"/>
          <p:cNvSpPr/>
          <p:nvPr/>
        </p:nvSpPr>
        <p:spPr>
          <a:xfrm>
            <a:off x="1523880" y="3429000"/>
            <a:ext cx="5335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676520" y="3809880"/>
          <a:ext cx="6705360" cy="2667240"/>
        </p:xfrm>
        <a:graphic>
          <a:graphicData uri="http://schemas.openxmlformats.org/drawingml/2006/table">
            <a:tbl>
              <a:tblPr/>
              <a:tblGrid>
                <a:gridCol w="1166760"/>
                <a:gridCol w="1747800"/>
                <a:gridCol w="1819080"/>
                <a:gridCol w="1971720"/>
              </a:tblGrid>
              <a:tr h="666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ol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Text Box 62"/>
          <p:cNvSpPr/>
          <p:nvPr/>
        </p:nvSpPr>
        <p:spPr>
          <a:xfrm>
            <a:off x="2895480" y="4495680"/>
            <a:ext cx="1600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l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3"/>
          <p:cNvSpPr/>
          <p:nvPr/>
        </p:nvSpPr>
        <p:spPr>
          <a:xfrm>
            <a:off x="2895480" y="4952880"/>
            <a:ext cx="1600200" cy="366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4"/>
          <p:cNvSpPr/>
          <p:nvPr/>
        </p:nvSpPr>
        <p:spPr>
          <a:xfrm>
            <a:off x="2895480" y="5195880"/>
            <a:ext cx="1600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5"/>
          <p:cNvSpPr/>
          <p:nvPr/>
        </p:nvSpPr>
        <p:spPr>
          <a:xfrm>
            <a:off x="2895480" y="5668920"/>
            <a:ext cx="1600200" cy="274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6"/>
          <p:cNvSpPr/>
          <p:nvPr/>
        </p:nvSpPr>
        <p:spPr>
          <a:xfrm>
            <a:off x="2895480" y="5867280"/>
            <a:ext cx="1600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7"/>
          <p:cNvSpPr/>
          <p:nvPr/>
        </p:nvSpPr>
        <p:spPr>
          <a:xfrm>
            <a:off x="6400800" y="45100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Volv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8"/>
          <p:cNvSpPr/>
          <p:nvPr/>
        </p:nvSpPr>
        <p:spPr>
          <a:xfrm>
            <a:off x="6477120" y="5195880"/>
            <a:ext cx="1600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Volv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9"/>
          <p:cNvSpPr/>
          <p:nvPr/>
        </p:nvSpPr>
        <p:spPr>
          <a:xfrm>
            <a:off x="6477120" y="5867280"/>
            <a:ext cx="1600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l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0"/>
          <p:cNvSpPr/>
          <p:nvPr/>
        </p:nvSpPr>
        <p:spPr>
          <a:xfrm>
            <a:off x="4495680" y="5867280"/>
            <a:ext cx="1600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l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1"/>
          <p:cNvSpPr/>
          <p:nvPr/>
        </p:nvSpPr>
        <p:spPr>
          <a:xfrm>
            <a:off x="3429000" y="6384960"/>
            <a:ext cx="2666880" cy="16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2"/>
          <p:cNvSpPr/>
          <p:nvPr/>
        </p:nvSpPr>
        <p:spPr>
          <a:xfrm>
            <a:off x="2895480" y="6400800"/>
            <a:ext cx="5335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ne more tim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2280" y="914400"/>
          <a:ext cx="6934320" cy="2590920"/>
        </p:xfrm>
        <a:graphic>
          <a:graphicData uri="http://schemas.openxmlformats.org/drawingml/2006/table">
            <a:tbl>
              <a:tblPr/>
              <a:tblGrid>
                <a:gridCol w="1206720"/>
                <a:gridCol w="1807920"/>
                <a:gridCol w="2065320"/>
                <a:gridCol w="1854360"/>
              </a:tblGrid>
              <a:tr h="647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er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 Box 27"/>
          <p:cNvSpPr/>
          <p:nvPr/>
        </p:nvSpPr>
        <p:spPr>
          <a:xfrm>
            <a:off x="1523880" y="1614600"/>
            <a:ext cx="1600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r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523880" y="2300400"/>
            <a:ext cx="1600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r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1523880" y="2909880"/>
            <a:ext cx="1600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5105520" y="1614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Perd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5334120" y="2209680"/>
            <a:ext cx="1600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Perd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5334120" y="2909880"/>
            <a:ext cx="1600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1523880" y="2071800"/>
            <a:ext cx="1600200" cy="36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1523880" y="2773440"/>
            <a:ext cx="1600200" cy="274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3048120" y="2909880"/>
            <a:ext cx="1600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6"/>
          <p:cNvSpPr/>
          <p:nvPr/>
        </p:nvSpPr>
        <p:spPr>
          <a:xfrm>
            <a:off x="1981080" y="3413160"/>
            <a:ext cx="2667240" cy="16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7"/>
          <p:cNvSpPr/>
          <p:nvPr/>
        </p:nvSpPr>
        <p:spPr>
          <a:xfrm>
            <a:off x="1523880" y="3429000"/>
            <a:ext cx="5335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676520" y="3809880"/>
          <a:ext cx="6705360" cy="2667240"/>
        </p:xfrm>
        <a:graphic>
          <a:graphicData uri="http://schemas.openxmlformats.org/drawingml/2006/table">
            <a:tbl>
              <a:tblPr/>
              <a:tblGrid>
                <a:gridCol w="1166760"/>
                <a:gridCol w="1747800"/>
                <a:gridCol w="1819080"/>
                <a:gridCol w="1971720"/>
              </a:tblGrid>
              <a:tr h="666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evol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Text Box 62"/>
          <p:cNvSpPr/>
          <p:nvPr/>
        </p:nvSpPr>
        <p:spPr>
          <a:xfrm>
            <a:off x="2743200" y="4495680"/>
            <a:ext cx="190512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dev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l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3"/>
          <p:cNvSpPr/>
          <p:nvPr/>
        </p:nvSpPr>
        <p:spPr>
          <a:xfrm>
            <a:off x="2743200" y="4952880"/>
            <a:ext cx="1905120" cy="366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4"/>
          <p:cNvSpPr/>
          <p:nvPr/>
        </p:nvSpPr>
        <p:spPr>
          <a:xfrm>
            <a:off x="2743200" y="5195880"/>
            <a:ext cx="1943280" cy="94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dev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lv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5"/>
          <p:cNvSpPr/>
          <p:nvPr/>
        </p:nvSpPr>
        <p:spPr>
          <a:xfrm>
            <a:off x="2895480" y="5668920"/>
            <a:ext cx="1600200" cy="274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6"/>
          <p:cNvSpPr/>
          <p:nvPr/>
        </p:nvSpPr>
        <p:spPr>
          <a:xfrm>
            <a:off x="2743200" y="5867280"/>
            <a:ext cx="175248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dev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7"/>
          <p:cNvSpPr/>
          <p:nvPr/>
        </p:nvSpPr>
        <p:spPr>
          <a:xfrm>
            <a:off x="6400800" y="45100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Volv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8"/>
          <p:cNvSpPr/>
          <p:nvPr/>
        </p:nvSpPr>
        <p:spPr>
          <a:xfrm>
            <a:off x="6477120" y="5195880"/>
            <a:ext cx="1600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Volv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9"/>
          <p:cNvSpPr/>
          <p:nvPr/>
        </p:nvSpPr>
        <p:spPr>
          <a:xfrm>
            <a:off x="6477120" y="5867280"/>
            <a:ext cx="20574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dev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l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0"/>
          <p:cNvSpPr/>
          <p:nvPr/>
        </p:nvSpPr>
        <p:spPr>
          <a:xfrm>
            <a:off x="4495680" y="5867280"/>
            <a:ext cx="198144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dev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l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1"/>
          <p:cNvSpPr/>
          <p:nvPr/>
        </p:nvSpPr>
        <p:spPr>
          <a:xfrm>
            <a:off x="3429000" y="6346800"/>
            <a:ext cx="2979720" cy="16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2"/>
          <p:cNvSpPr/>
          <p:nvPr/>
        </p:nvSpPr>
        <p:spPr>
          <a:xfrm>
            <a:off x="2743200" y="6431040"/>
            <a:ext cx="685800" cy="19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5:09:59Z</dcterms:created>
  <dc:creator>Helen Zumaeta</dc:creator>
  <dc:description/>
  <dc:language>en-US</dc:language>
  <cp:lastModifiedBy>Helen Zumaeta</cp:lastModifiedBy>
  <cp:lastPrinted>2014-11-19T20:20:18Z</cp:lastPrinted>
  <dcterms:modified xsi:type="dcterms:W3CDTF">2014-11-21T20:32:38Z</dcterms:modified>
  <cp:revision>10</cp:revision>
  <dc:subject/>
  <dc:title>Me llamo _________ Clase 7 IM La fecha es 3 de diciembre del 2010</dc:title>
</cp:coreProperties>
</file>